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0125-EDC5-43E0-9757-5BCAB0B6D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3C29-41B7-4925-84B3-05A2552D2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5243-3D5E-403D-8B90-BF4D390C9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EE63-2B04-4379-A8A3-9B339230CE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363C-69B4-4DC0-AE23-A05FEBA8B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4CD2-3BA6-42B3-A863-068B1346E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47F3-2FD6-47D8-A12E-382ADA577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D7E1-AE4F-4ACF-913D-272744DF0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3631-4112-4E91-8B32-4814812DE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F6AD-CE17-47A4-A02C-685531612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A9C9-074C-4B15-B21B-AFCC35188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E705-0B47-4310-B4DE-B47B2F412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2E3-A3F0-42F4-B648-46D15FE9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790560"/>
            <a:ext cx="8229600" cy="167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general supplies less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18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585880"/>
            <a:ext cx="5943600" cy="391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3657600"/>
            <a:ext cx="4343400" cy="1465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 BEFORE YOU BEGIN, YOU MUST CLICK ON THE POWERPOINT SLIDE SHOW SYMBOL AT THE BOTTOM LEFT CORNER OF YOUR COMPUTER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543800" y="4876920"/>
            <a:ext cx="771120" cy="685080"/>
            <a:chOff x="7543800" y="4876920"/>
            <a:chExt cx="771120" cy="685080"/>
          </a:xfrm>
        </p:grpSpPr>
        <p:grpSp>
          <p:nvGrpSpPr>
            <p:cNvPr id="46" name=""/>
            <p:cNvGrpSpPr/>
            <p:nvPr/>
          </p:nvGrpSpPr>
          <p:grpSpPr>
            <a:xfrm>
              <a:off x="7543800" y="4876920"/>
              <a:ext cx="770760" cy="685080"/>
              <a:chOff x="7543800" y="4876920"/>
              <a:chExt cx="770760" cy="685080"/>
            </a:xfrm>
          </p:grpSpPr>
          <p:sp>
            <p:nvSpPr>
              <p:cNvPr id="47" name=""/>
              <p:cNvSpPr/>
              <p:nvPr/>
            </p:nvSpPr>
            <p:spPr>
              <a:xfrm>
                <a:off x="7929000" y="53334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72320" y="5562000"/>
                <a:ext cx="514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543800" y="4876920"/>
                <a:ext cx="770760" cy="45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7543800" y="4876920"/>
              <a:ext cx="771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77360" y="5042880"/>
              <a:ext cx="449640" cy="8352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 rot="5400000">
            <a:off x="2272320" y="1524600"/>
            <a:ext cx="2352600" cy="356400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2676240" y="1223640"/>
            <a:ext cx="2352600" cy="356220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8320" y="227952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25909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57560" y="30909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6942600" y="4585320"/>
            <a:ext cx="272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447440" y="3502800"/>
            <a:ext cx="331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1480" y="5078520"/>
            <a:ext cx="6159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1107000" y="2467800"/>
            <a:ext cx="1747800" cy="17463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1566360" y="3191040"/>
            <a:ext cx="48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4480" y="2706840"/>
            <a:ext cx="617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655520" y="3455640"/>
            <a:ext cx="2571480" cy="2615400"/>
            <a:chOff x="4655520" y="3455640"/>
            <a:chExt cx="2571480" cy="2615400"/>
          </a:xfrm>
        </p:grpSpPr>
        <p:sp>
          <p:nvSpPr>
            <p:cNvPr id="336" name=""/>
            <p:cNvSpPr/>
            <p:nvPr/>
          </p:nvSpPr>
          <p:spPr>
            <a:xfrm flipV="1" rot="2759400">
              <a:off x="4775040" y="4121640"/>
              <a:ext cx="2373480" cy="122472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655520" y="3535200"/>
              <a:ext cx="2508480" cy="2535840"/>
              <a:chOff x="4655520" y="3535200"/>
              <a:chExt cx="2508480" cy="2535840"/>
            </a:xfrm>
          </p:grpSpPr>
          <p:sp>
            <p:nvSpPr>
              <p:cNvPr id="338" name=""/>
              <p:cNvSpPr/>
              <p:nvPr/>
            </p:nvSpPr>
            <p:spPr>
              <a:xfrm flipV="1" rot="2759400">
                <a:off x="4737240" y="4191480"/>
                <a:ext cx="2344320" cy="12229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 rot="2759400">
                <a:off x="4737240" y="4191480"/>
                <a:ext cx="2344320" cy="12229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340000" y="3130560"/>
            <a:ext cx="1893960" cy="771120"/>
            <a:chOff x="2340000" y="3130560"/>
            <a:chExt cx="1893960" cy="771120"/>
          </a:xfrm>
        </p:grpSpPr>
        <p:sp>
          <p:nvSpPr>
            <p:cNvPr id="341" name=""/>
            <p:cNvSpPr/>
            <p:nvPr/>
          </p:nvSpPr>
          <p:spPr>
            <a:xfrm>
              <a:off x="2340000" y="3180240"/>
              <a:ext cx="1893960" cy="72144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361960" y="3130560"/>
              <a:ext cx="1870920" cy="720360"/>
              <a:chOff x="2361960" y="3130560"/>
              <a:chExt cx="1870920" cy="720360"/>
            </a:xfrm>
          </p:grpSpPr>
          <p:sp>
            <p:nvSpPr>
              <p:cNvPr id="343" name=""/>
              <p:cNvSpPr/>
              <p:nvPr/>
            </p:nvSpPr>
            <p:spPr>
              <a:xfrm>
                <a:off x="2361960" y="3130560"/>
                <a:ext cx="1870920" cy="7203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61960" y="3130560"/>
                <a:ext cx="1870920" cy="72036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5021280" y="3746520"/>
            <a:ext cx="446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171200">
            <a:off x="4200480" y="3510000"/>
            <a:ext cx="1414440" cy="11034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84760" y="3681360"/>
            <a:ext cx="566640" cy="474480"/>
            <a:chOff x="4784760" y="3681360"/>
            <a:chExt cx="566640" cy="474480"/>
          </a:xfrm>
        </p:grpSpPr>
        <p:sp>
          <p:nvSpPr>
            <p:cNvPr id="348" name=""/>
            <p:cNvSpPr/>
            <p:nvPr/>
          </p:nvSpPr>
          <p:spPr>
            <a:xfrm>
              <a:off x="4784760" y="3891960"/>
              <a:ext cx="566640" cy="263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99880" y="3957120"/>
              <a:ext cx="536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33080" y="3681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rot="1401600">
            <a:off x="7141680" y="5025600"/>
            <a:ext cx="970200" cy="1057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405560" y="5070600"/>
            <a:ext cx="565200" cy="412200"/>
            <a:chOff x="7405560" y="5070600"/>
            <a:chExt cx="565200" cy="412200"/>
          </a:xfrm>
        </p:grpSpPr>
        <p:sp>
          <p:nvSpPr>
            <p:cNvPr id="353" name=""/>
            <p:cNvSpPr/>
            <p:nvPr/>
          </p:nvSpPr>
          <p:spPr>
            <a:xfrm>
              <a:off x="7405560" y="5232960"/>
              <a:ext cx="565200" cy="249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26880" y="52956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60000" y="507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34240" y="5943600"/>
            <a:ext cx="407880" cy="325440"/>
            <a:chOff x="5934240" y="5943600"/>
            <a:chExt cx="407880" cy="325440"/>
          </a:xfrm>
        </p:grpSpPr>
        <p:sp>
          <p:nvSpPr>
            <p:cNvPr id="357" name=""/>
            <p:cNvSpPr/>
            <p:nvPr/>
          </p:nvSpPr>
          <p:spPr>
            <a:xfrm>
              <a:off x="6033960" y="59436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34240" y="6064560"/>
              <a:ext cx="407880" cy="204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0200" y="61048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568520" y="2863800"/>
            <a:ext cx="5364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51320" y="23414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4760" y="2490840"/>
            <a:ext cx="565200" cy="249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178600" y="5937120"/>
            <a:ext cx="653760" cy="401400"/>
            <a:chOff x="5178600" y="5937120"/>
            <a:chExt cx="653760" cy="401400"/>
          </a:xfrm>
        </p:grpSpPr>
        <p:sp>
          <p:nvSpPr>
            <p:cNvPr id="364" name=""/>
            <p:cNvSpPr/>
            <p:nvPr/>
          </p:nvSpPr>
          <p:spPr>
            <a:xfrm>
              <a:off x="5371200" y="593712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178600" y="6062400"/>
              <a:ext cx="653760" cy="276120"/>
              <a:chOff x="5178600" y="6062400"/>
              <a:chExt cx="653760" cy="276120"/>
            </a:xfrm>
          </p:grpSpPr>
          <p:sp>
            <p:nvSpPr>
              <p:cNvPr id="366" name=""/>
              <p:cNvSpPr/>
              <p:nvPr/>
            </p:nvSpPr>
            <p:spPr>
              <a:xfrm>
                <a:off x="5178600" y="6062400"/>
                <a:ext cx="65376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13600" y="6137640"/>
                <a:ext cx="383760" cy="125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70480" y="6162120"/>
                <a:ext cx="269640" cy="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370480" y="6161760"/>
                <a:ext cx="269640" cy="7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1398600" y="2716200"/>
            <a:ext cx="566640" cy="474480"/>
            <a:chOff x="1398600" y="2716200"/>
            <a:chExt cx="566640" cy="474480"/>
          </a:xfrm>
        </p:grpSpPr>
        <p:sp>
          <p:nvSpPr>
            <p:cNvPr id="371" name=""/>
            <p:cNvSpPr/>
            <p:nvPr/>
          </p:nvSpPr>
          <p:spPr>
            <a:xfrm>
              <a:off x="1398600" y="2926800"/>
              <a:ext cx="566640" cy="263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13720" y="2991960"/>
              <a:ext cx="536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46920" y="271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157080" y="5617440"/>
            <a:ext cx="1381680" cy="951480"/>
            <a:chOff x="6157080" y="5617440"/>
            <a:chExt cx="1381680" cy="951480"/>
          </a:xfrm>
        </p:grpSpPr>
        <p:sp>
          <p:nvSpPr>
            <p:cNvPr id="375" name=""/>
            <p:cNvSpPr/>
            <p:nvPr/>
          </p:nvSpPr>
          <p:spPr>
            <a:xfrm rot="9001200">
              <a:off x="6120000" y="5964840"/>
              <a:ext cx="1455480" cy="24228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166080" y="5640840"/>
              <a:ext cx="1366200" cy="928080"/>
              <a:chOff x="6166080" y="5640840"/>
              <a:chExt cx="1366200" cy="928080"/>
            </a:xfrm>
          </p:grpSpPr>
          <p:sp>
            <p:nvSpPr>
              <p:cNvPr id="377" name=""/>
              <p:cNvSpPr/>
              <p:nvPr/>
            </p:nvSpPr>
            <p:spPr>
              <a:xfrm rot="9001200">
                <a:off x="6130080" y="5983560"/>
                <a:ext cx="1437840" cy="2419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9001200">
                <a:off x="6130080" y="5983560"/>
                <a:ext cx="1437840" cy="2419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1979640" y="3152880"/>
            <a:ext cx="509400" cy="388440"/>
            <a:chOff x="1979640" y="3152880"/>
            <a:chExt cx="509400" cy="388440"/>
          </a:xfrm>
        </p:grpSpPr>
        <p:sp>
          <p:nvSpPr>
            <p:cNvPr id="380" name=""/>
            <p:cNvSpPr/>
            <p:nvPr/>
          </p:nvSpPr>
          <p:spPr>
            <a:xfrm>
              <a:off x="2095200" y="31528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979640" y="3290760"/>
              <a:ext cx="509400" cy="250560"/>
              <a:chOff x="1979640" y="3290760"/>
              <a:chExt cx="509400" cy="250560"/>
            </a:xfrm>
          </p:grpSpPr>
          <p:sp>
            <p:nvSpPr>
              <p:cNvPr id="382" name=""/>
              <p:cNvSpPr/>
              <p:nvPr/>
            </p:nvSpPr>
            <p:spPr>
              <a:xfrm>
                <a:off x="1979640" y="3290760"/>
                <a:ext cx="509400" cy="25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1979640" y="3465360"/>
                <a:ext cx="50940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4379760" y="3965400"/>
            <a:ext cx="508320" cy="387000"/>
            <a:chOff x="4379760" y="3965400"/>
            <a:chExt cx="508320" cy="387000"/>
          </a:xfrm>
        </p:grpSpPr>
        <p:sp>
          <p:nvSpPr>
            <p:cNvPr id="385" name=""/>
            <p:cNvSpPr/>
            <p:nvPr/>
          </p:nvSpPr>
          <p:spPr>
            <a:xfrm>
              <a:off x="4494240" y="39654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379760" y="4102920"/>
              <a:ext cx="508320" cy="249480"/>
              <a:chOff x="4379760" y="4102920"/>
              <a:chExt cx="508320" cy="24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4379760" y="4102920"/>
                <a:ext cx="508320" cy="249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379760" y="4276800"/>
                <a:ext cx="5083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7359480" y="5526000"/>
            <a:ext cx="580320" cy="499320"/>
            <a:chOff x="7359480" y="5526000"/>
            <a:chExt cx="580320" cy="499320"/>
          </a:xfrm>
        </p:grpSpPr>
        <p:sp>
          <p:nvSpPr>
            <p:cNvPr id="390" name=""/>
            <p:cNvSpPr/>
            <p:nvPr/>
          </p:nvSpPr>
          <p:spPr>
            <a:xfrm>
              <a:off x="7490880" y="55260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359480" y="5703480"/>
              <a:ext cx="580320" cy="321840"/>
              <a:chOff x="7359480" y="5703480"/>
              <a:chExt cx="580320" cy="321840"/>
            </a:xfrm>
          </p:grpSpPr>
          <p:sp>
            <p:nvSpPr>
              <p:cNvPr id="392" name=""/>
              <p:cNvSpPr/>
              <p:nvPr/>
            </p:nvSpPr>
            <p:spPr>
              <a:xfrm>
                <a:off x="7359480" y="5703480"/>
                <a:ext cx="580320" cy="3218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59480" y="5928120"/>
                <a:ext cx="5803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7529400" y="5724360"/>
            <a:ext cx="217440" cy="187560"/>
            <a:chOff x="7529400" y="5724360"/>
            <a:chExt cx="217440" cy="187560"/>
          </a:xfrm>
        </p:grpSpPr>
        <p:sp>
          <p:nvSpPr>
            <p:cNvPr id="395" name=""/>
            <p:cNvSpPr/>
            <p:nvPr/>
          </p:nvSpPr>
          <p:spPr>
            <a:xfrm>
              <a:off x="7529400" y="5724360"/>
              <a:ext cx="217440" cy="187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29400" y="5820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553160" y="5745240"/>
              <a:ext cx="173880" cy="15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45600" y="5752080"/>
              <a:ext cx="17388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034000" y="3078000"/>
            <a:ext cx="3503160" cy="3595680"/>
            <a:chOff x="2034000" y="3078000"/>
            <a:chExt cx="3503160" cy="3595680"/>
          </a:xfrm>
        </p:grpSpPr>
        <p:sp>
          <p:nvSpPr>
            <p:cNvPr id="400" name=""/>
            <p:cNvSpPr/>
            <p:nvPr/>
          </p:nvSpPr>
          <p:spPr>
            <a:xfrm flipV="1" rot="2759400">
              <a:off x="1893600" y="4271760"/>
              <a:ext cx="3809520" cy="115488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034000" y="3166560"/>
              <a:ext cx="3443400" cy="3507120"/>
              <a:chOff x="2034000" y="3166560"/>
              <a:chExt cx="3443400" cy="3507120"/>
            </a:xfrm>
          </p:grpSpPr>
          <p:sp>
            <p:nvSpPr>
              <p:cNvPr id="402" name=""/>
              <p:cNvSpPr/>
              <p:nvPr/>
            </p:nvSpPr>
            <p:spPr>
              <a:xfrm flipV="1" rot="2759400">
                <a:off x="1874160" y="4343400"/>
                <a:ext cx="3762720" cy="11527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2759400">
                <a:off x="1874160" y="4343400"/>
                <a:ext cx="3762720" cy="11527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380880" y="1905120"/>
            <a:ext cx="800280" cy="685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How would you draw arrows to depict supply distribution of Class I from the Corps sustainment base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B    FMI 4-90.1    Slide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50520" y="632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29120" y="1828800"/>
            <a:ext cx="2590920" cy="1228680"/>
          </a:xfrm>
          <a:custGeom>
            <a:avLst/>
            <a:gdLst/>
            <a:ahLst/>
            <a:rect l="l" t="t" r="r" b="b"/>
            <a:pathLst>
              <a:path w="1632" h="774">
                <a:moveTo>
                  <a:pt x="0" y="0"/>
                </a:moveTo>
                <a:lnTo>
                  <a:pt x="0" y="773"/>
                </a:lnTo>
                <a:lnTo>
                  <a:pt x="1631" y="773"/>
                </a:lnTo>
                <a:lnTo>
                  <a:pt x="1631" y="0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67000" y="4460760"/>
            <a:ext cx="3041640" cy="809640"/>
          </a:xfrm>
          <a:custGeom>
            <a:avLst/>
            <a:gdLst/>
            <a:ahLst/>
            <a:rect l="l" t="t" r="r" b="b"/>
            <a:pathLst>
              <a:path w="1916" h="510">
                <a:moveTo>
                  <a:pt x="1915" y="0"/>
                </a:moveTo>
                <a:lnTo>
                  <a:pt x="0" y="509"/>
                </a:lnTo>
                <a:lnTo>
                  <a:pt x="1628" y="509"/>
                </a:lnTo>
                <a:lnTo>
                  <a:pt x="1915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51440" y="4460760"/>
            <a:ext cx="457200" cy="2040120"/>
          </a:xfrm>
          <a:custGeom>
            <a:avLst/>
            <a:gdLst/>
            <a:ahLst/>
            <a:rect l="l" t="t" r="r" b="b"/>
            <a:pathLst>
              <a:path w="288" h="1285">
                <a:moveTo>
                  <a:pt x="0" y="509"/>
                </a:moveTo>
                <a:lnTo>
                  <a:pt x="287" y="0"/>
                </a:lnTo>
                <a:lnTo>
                  <a:pt x="0" y="1284"/>
                </a:lnTo>
                <a:lnTo>
                  <a:pt x="0" y="509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74920" y="5268960"/>
            <a:ext cx="2582640" cy="1224000"/>
          </a:xfrm>
          <a:custGeom>
            <a:avLst/>
            <a:gdLst/>
            <a:ahLst/>
            <a:rect l="l" t="t" r="r" b="b"/>
            <a:pathLst>
              <a:path w="1627" h="771">
                <a:moveTo>
                  <a:pt x="0" y="770"/>
                </a:moveTo>
                <a:lnTo>
                  <a:pt x="0" y="0"/>
                </a:lnTo>
                <a:lnTo>
                  <a:pt x="1626" y="0"/>
                </a:lnTo>
                <a:lnTo>
                  <a:pt x="1626" y="770"/>
                </a:lnTo>
                <a:lnTo>
                  <a:pt x="0" y="77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06840" y="4460760"/>
            <a:ext cx="3030480" cy="809640"/>
          </a:xfrm>
          <a:custGeom>
            <a:avLst/>
            <a:gdLst/>
            <a:ahLst/>
            <a:rect l="l" t="t" r="r" b="b"/>
            <a:pathLst>
              <a:path w="1909" h="510">
                <a:moveTo>
                  <a:pt x="0" y="0"/>
                </a:moveTo>
                <a:lnTo>
                  <a:pt x="1908" y="509"/>
                </a:lnTo>
                <a:lnTo>
                  <a:pt x="278" y="509"/>
                </a:lnTo>
                <a:lnTo>
                  <a:pt x="0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06840" y="4460760"/>
            <a:ext cx="443160" cy="2040120"/>
          </a:xfrm>
          <a:custGeom>
            <a:avLst/>
            <a:gdLst/>
            <a:ahLst/>
            <a:rect l="l" t="t" r="r" b="b"/>
            <a:pathLst>
              <a:path w="279" h="1285">
                <a:moveTo>
                  <a:pt x="278" y="509"/>
                </a:moveTo>
                <a:lnTo>
                  <a:pt x="0" y="0"/>
                </a:lnTo>
                <a:lnTo>
                  <a:pt x="278" y="1284"/>
                </a:lnTo>
                <a:lnTo>
                  <a:pt x="278" y="509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48200" y="5268960"/>
            <a:ext cx="2589120" cy="1228680"/>
          </a:xfrm>
          <a:custGeom>
            <a:avLst/>
            <a:gdLst/>
            <a:ahLst/>
            <a:rect l="l" t="t" r="r" b="b"/>
            <a:pathLst>
              <a:path w="1631" h="774">
                <a:moveTo>
                  <a:pt x="0" y="773"/>
                </a:moveTo>
                <a:lnTo>
                  <a:pt x="0" y="0"/>
                </a:lnTo>
                <a:lnTo>
                  <a:pt x="1630" y="0"/>
                </a:lnTo>
                <a:lnTo>
                  <a:pt x="1630" y="773"/>
                </a:lnTo>
                <a:lnTo>
                  <a:pt x="0" y="773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3056040"/>
            <a:ext cx="3043080" cy="822240"/>
          </a:xfrm>
          <a:custGeom>
            <a:avLst/>
            <a:gdLst/>
            <a:ahLst/>
            <a:rect l="l" t="t" r="r" b="b"/>
            <a:pathLst>
              <a:path w="1917" h="518">
                <a:moveTo>
                  <a:pt x="1916" y="517"/>
                </a:moveTo>
                <a:lnTo>
                  <a:pt x="0" y="0"/>
                </a:lnTo>
                <a:lnTo>
                  <a:pt x="1628" y="0"/>
                </a:lnTo>
                <a:lnTo>
                  <a:pt x="1916" y="517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32360" y="1828800"/>
            <a:ext cx="458640" cy="2049480"/>
          </a:xfrm>
          <a:custGeom>
            <a:avLst/>
            <a:gdLst/>
            <a:ahLst/>
            <a:rect l="l" t="t" r="r" b="b"/>
            <a:pathLst>
              <a:path w="289" h="1291">
                <a:moveTo>
                  <a:pt x="0" y="773"/>
                </a:moveTo>
                <a:lnTo>
                  <a:pt x="288" y="1290"/>
                </a:lnTo>
                <a:lnTo>
                  <a:pt x="0" y="0"/>
                </a:lnTo>
                <a:lnTo>
                  <a:pt x="0" y="773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57280" y="1828800"/>
            <a:ext cx="2581200" cy="1228680"/>
          </a:xfrm>
          <a:custGeom>
            <a:avLst/>
            <a:gdLst/>
            <a:ahLst/>
            <a:rect l="l" t="t" r="r" b="b"/>
            <a:pathLst>
              <a:path w="1626" h="774">
                <a:moveTo>
                  <a:pt x="0" y="0"/>
                </a:moveTo>
                <a:lnTo>
                  <a:pt x="0" y="773"/>
                </a:lnTo>
                <a:lnTo>
                  <a:pt x="1625" y="773"/>
                </a:lnTo>
                <a:lnTo>
                  <a:pt x="162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89560" y="3056040"/>
            <a:ext cx="3030480" cy="822240"/>
          </a:xfrm>
          <a:custGeom>
            <a:avLst/>
            <a:gdLst/>
            <a:ahLst/>
            <a:rect l="l" t="t" r="r" b="b"/>
            <a:pathLst>
              <a:path w="1909" h="518">
                <a:moveTo>
                  <a:pt x="0" y="517"/>
                </a:moveTo>
                <a:lnTo>
                  <a:pt x="1908" y="0"/>
                </a:lnTo>
                <a:lnTo>
                  <a:pt x="277" y="0"/>
                </a:lnTo>
                <a:lnTo>
                  <a:pt x="0" y="517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89560" y="1828800"/>
            <a:ext cx="441360" cy="2049480"/>
          </a:xfrm>
          <a:custGeom>
            <a:avLst/>
            <a:gdLst/>
            <a:ahLst/>
            <a:rect l="l" t="t" r="r" b="b"/>
            <a:pathLst>
              <a:path w="278" h="1291">
                <a:moveTo>
                  <a:pt x="277" y="773"/>
                </a:moveTo>
                <a:lnTo>
                  <a:pt x="0" y="1290"/>
                </a:lnTo>
                <a:lnTo>
                  <a:pt x="277" y="0"/>
                </a:lnTo>
                <a:lnTo>
                  <a:pt x="277" y="773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30720" y="2089440"/>
            <a:ext cx="2432880" cy="7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SENTIAL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8520" y="6415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990720"/>
            <a:ext cx="8077320" cy="73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ASL stockage selection is based 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Fill in the remaining blank squares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41520" y="4437000"/>
            <a:ext cx="3041640" cy="809640"/>
          </a:xfrm>
          <a:custGeom>
            <a:avLst/>
            <a:gdLst/>
            <a:ahLst/>
            <a:rect l="l" t="t" r="r" b="b"/>
            <a:pathLst>
              <a:path w="1916" h="510">
                <a:moveTo>
                  <a:pt x="1915" y="0"/>
                </a:moveTo>
                <a:lnTo>
                  <a:pt x="0" y="509"/>
                </a:lnTo>
                <a:lnTo>
                  <a:pt x="1628" y="509"/>
                </a:lnTo>
                <a:lnTo>
                  <a:pt x="1915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25960" y="4437000"/>
            <a:ext cx="457200" cy="2040120"/>
          </a:xfrm>
          <a:custGeom>
            <a:avLst/>
            <a:gdLst/>
            <a:ahLst/>
            <a:rect l="l" t="t" r="r" b="b"/>
            <a:pathLst>
              <a:path w="288" h="1285">
                <a:moveTo>
                  <a:pt x="0" y="509"/>
                </a:moveTo>
                <a:lnTo>
                  <a:pt x="287" y="0"/>
                </a:lnTo>
                <a:lnTo>
                  <a:pt x="0" y="1284"/>
                </a:lnTo>
                <a:lnTo>
                  <a:pt x="0" y="509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81360" y="4437000"/>
            <a:ext cx="3030840" cy="809640"/>
          </a:xfrm>
          <a:custGeom>
            <a:avLst/>
            <a:gdLst/>
            <a:ahLst/>
            <a:rect l="l" t="t" r="r" b="b"/>
            <a:pathLst>
              <a:path w="1909" h="510">
                <a:moveTo>
                  <a:pt x="0" y="0"/>
                </a:moveTo>
                <a:lnTo>
                  <a:pt x="1908" y="509"/>
                </a:lnTo>
                <a:lnTo>
                  <a:pt x="278" y="509"/>
                </a:lnTo>
                <a:lnTo>
                  <a:pt x="0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81360" y="4437000"/>
            <a:ext cx="443160" cy="2040120"/>
          </a:xfrm>
          <a:custGeom>
            <a:avLst/>
            <a:gdLst/>
            <a:ahLst/>
            <a:rect l="l" t="t" r="r" b="b"/>
            <a:pathLst>
              <a:path w="279" h="1285">
                <a:moveTo>
                  <a:pt x="278" y="509"/>
                </a:moveTo>
                <a:lnTo>
                  <a:pt x="0" y="0"/>
                </a:lnTo>
                <a:lnTo>
                  <a:pt x="278" y="1284"/>
                </a:lnTo>
                <a:lnTo>
                  <a:pt x="278" y="509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440" y="3032280"/>
            <a:ext cx="3043080" cy="822240"/>
          </a:xfrm>
          <a:custGeom>
            <a:avLst/>
            <a:gdLst/>
            <a:ahLst/>
            <a:rect l="l" t="t" r="r" b="b"/>
            <a:pathLst>
              <a:path w="1917" h="518">
                <a:moveTo>
                  <a:pt x="1916" y="517"/>
                </a:moveTo>
                <a:lnTo>
                  <a:pt x="0" y="0"/>
                </a:lnTo>
                <a:lnTo>
                  <a:pt x="1628" y="0"/>
                </a:lnTo>
                <a:lnTo>
                  <a:pt x="1916" y="517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06880" y="1805040"/>
            <a:ext cx="458640" cy="2049480"/>
          </a:xfrm>
          <a:custGeom>
            <a:avLst/>
            <a:gdLst/>
            <a:ahLst/>
            <a:rect l="l" t="t" r="r" b="b"/>
            <a:pathLst>
              <a:path w="289" h="1291">
                <a:moveTo>
                  <a:pt x="0" y="773"/>
                </a:moveTo>
                <a:lnTo>
                  <a:pt x="288" y="1290"/>
                </a:lnTo>
                <a:lnTo>
                  <a:pt x="0" y="0"/>
                </a:lnTo>
                <a:lnTo>
                  <a:pt x="0" y="773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31800" y="1805040"/>
            <a:ext cx="2581560" cy="1228680"/>
          </a:xfrm>
          <a:custGeom>
            <a:avLst/>
            <a:gdLst/>
            <a:ahLst/>
            <a:rect l="l" t="t" r="r" b="b"/>
            <a:pathLst>
              <a:path w="1626" h="774">
                <a:moveTo>
                  <a:pt x="0" y="0"/>
                </a:moveTo>
                <a:lnTo>
                  <a:pt x="0" y="773"/>
                </a:lnTo>
                <a:lnTo>
                  <a:pt x="1625" y="773"/>
                </a:lnTo>
                <a:lnTo>
                  <a:pt x="162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64080" y="3032280"/>
            <a:ext cx="3030480" cy="822240"/>
          </a:xfrm>
          <a:custGeom>
            <a:avLst/>
            <a:gdLst/>
            <a:ahLst/>
            <a:rect l="l" t="t" r="r" b="b"/>
            <a:pathLst>
              <a:path w="1909" h="518">
                <a:moveTo>
                  <a:pt x="0" y="517"/>
                </a:moveTo>
                <a:lnTo>
                  <a:pt x="1908" y="0"/>
                </a:lnTo>
                <a:lnTo>
                  <a:pt x="277" y="0"/>
                </a:lnTo>
                <a:lnTo>
                  <a:pt x="0" y="517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64080" y="1805040"/>
            <a:ext cx="441360" cy="2049480"/>
          </a:xfrm>
          <a:custGeom>
            <a:avLst/>
            <a:gdLst/>
            <a:ahLst/>
            <a:rect l="l" t="t" r="r" b="b"/>
            <a:pathLst>
              <a:path w="278" h="1291">
                <a:moveTo>
                  <a:pt x="277" y="773"/>
                </a:moveTo>
                <a:lnTo>
                  <a:pt x="0" y="1290"/>
                </a:lnTo>
                <a:lnTo>
                  <a:pt x="277" y="0"/>
                </a:lnTo>
                <a:lnTo>
                  <a:pt x="277" y="773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5240" y="2065320"/>
            <a:ext cx="2432880" cy="7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SENTIAL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003640" y="1805040"/>
            <a:ext cx="2590920" cy="1228680"/>
            <a:chOff x="5003640" y="1805040"/>
            <a:chExt cx="2590920" cy="1228680"/>
          </a:xfrm>
        </p:grpSpPr>
        <p:sp>
          <p:nvSpPr>
            <p:cNvPr id="440" name=""/>
            <p:cNvSpPr/>
            <p:nvPr/>
          </p:nvSpPr>
          <p:spPr>
            <a:xfrm>
              <a:off x="5003640" y="1805040"/>
              <a:ext cx="2590920" cy="1228680"/>
            </a:xfrm>
            <a:custGeom>
              <a:avLst/>
              <a:gdLst/>
              <a:ahLst/>
              <a:rect l="l" t="t" r="r" b="b"/>
              <a:pathLst>
                <a:path w="1632" h="774">
                  <a:moveTo>
                    <a:pt x="0" y="0"/>
                  </a:moveTo>
                  <a:lnTo>
                    <a:pt x="0" y="773"/>
                  </a:lnTo>
                  <a:lnTo>
                    <a:pt x="1631" y="773"/>
                  </a:lnTo>
                  <a:lnTo>
                    <a:pt x="1631" y="0"/>
                  </a:lnTo>
                  <a:lnTo>
                    <a:pt x="0" y="0"/>
                  </a:lnTo>
                </a:path>
              </a:pathLst>
            </a:custGeom>
            <a:solidFill>
              <a:srgbClr val="d3ebe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35760" y="2008440"/>
              <a:ext cx="2382480" cy="71388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IT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TRAI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49440" y="5245200"/>
            <a:ext cx="2583000" cy="1224000"/>
            <a:chOff x="1549440" y="5245200"/>
            <a:chExt cx="2583000" cy="1224000"/>
          </a:xfrm>
        </p:grpSpPr>
        <p:sp>
          <p:nvSpPr>
            <p:cNvPr id="443" name=""/>
            <p:cNvSpPr/>
            <p:nvPr/>
          </p:nvSpPr>
          <p:spPr>
            <a:xfrm>
              <a:off x="1549440" y="5245200"/>
              <a:ext cx="2583000" cy="1224000"/>
            </a:xfrm>
            <a:custGeom>
              <a:avLst/>
              <a:gdLst/>
              <a:ahLst/>
              <a:rect l="l" t="t" r="r" b="b"/>
              <a:pathLst>
                <a:path w="1627" h="771">
                  <a:moveTo>
                    <a:pt x="0" y="770"/>
                  </a:moveTo>
                  <a:lnTo>
                    <a:pt x="0" y="0"/>
                  </a:lnTo>
                  <a:lnTo>
                    <a:pt x="1626" y="0"/>
                  </a:lnTo>
                  <a:lnTo>
                    <a:pt x="1626" y="770"/>
                  </a:lnTo>
                  <a:lnTo>
                    <a:pt x="0" y="770"/>
                  </a:lnTo>
                </a:path>
              </a:pathLst>
            </a:custGeom>
            <a:solidFill>
              <a:srgbClr val="d3ebe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77320" y="5347080"/>
              <a:ext cx="2120400" cy="102456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L REVIEW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BOARD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022720" y="5245200"/>
            <a:ext cx="2589480" cy="1228680"/>
            <a:chOff x="5022720" y="5245200"/>
            <a:chExt cx="2589480" cy="1228680"/>
          </a:xfrm>
        </p:grpSpPr>
        <p:sp>
          <p:nvSpPr>
            <p:cNvPr id="446" name=""/>
            <p:cNvSpPr/>
            <p:nvPr/>
          </p:nvSpPr>
          <p:spPr>
            <a:xfrm>
              <a:off x="5022720" y="5245200"/>
              <a:ext cx="2589480" cy="1228680"/>
            </a:xfrm>
            <a:custGeom>
              <a:avLst/>
              <a:gdLst/>
              <a:ahLst/>
              <a:rect l="l" t="t" r="r" b="b"/>
              <a:pathLst>
                <a:path w="1631" h="774">
                  <a:moveTo>
                    <a:pt x="0" y="773"/>
                  </a:moveTo>
                  <a:lnTo>
                    <a:pt x="0" y="0"/>
                  </a:lnTo>
                  <a:lnTo>
                    <a:pt x="1630" y="0"/>
                  </a:lnTo>
                  <a:lnTo>
                    <a:pt x="1630" y="773"/>
                  </a:lnTo>
                  <a:lnTo>
                    <a:pt x="0" y="773"/>
                  </a:lnTo>
                </a:path>
              </a:pathLst>
            </a:custGeom>
            <a:solidFill>
              <a:srgbClr val="d3ebe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35760" y="5483520"/>
              <a:ext cx="2382480" cy="71388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D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TRAI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094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848720" y="6248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990720"/>
            <a:ext cx="8077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ASL stockage selection is based 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64771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 Slide #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62485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locations of resupply operations in covered and concealed locations as far forward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ach transportation assets to engineers to support the movement of obstacle materials to construction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riggers for activating and deactivating log release points (LRPs) based on the HBCT’s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 general supply sustainment units as far to the rear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 securing of main supply routes (MSRs) is included in the tactical pl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using captured enemy supplies and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6477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9144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 Which of the following general supply support actions would you as the SPO plan to implement in support of offensive operations/defensive operations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553080" y="1798560"/>
          <a:ext cx="2133720" cy="45259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"/>
          <p:cNvSpPr/>
          <p:nvPr/>
        </p:nvSpPr>
        <p:spPr>
          <a:xfrm>
            <a:off x="914400" y="1828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6324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0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1878120"/>
            <a:ext cx="61722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locations of resupply operations in covered and concealed locations as far forward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ach transportation assets to engineers to support the movement of obstacle materials to construction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riggers for activating and deactivating log release points (LRPs) based on the HBCT’s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 general supply sustainment units as far to the rear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 securing of main supply routes (MSRs) is included in the tactical pl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 using captured enemy supplies and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914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 Which of the following general supply support actions would you as the SPO planner see to be more critical in support of offensive operations or defensive operations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553080" y="1798560"/>
          <a:ext cx="2133720" cy="45259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914400" y="6477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D    Slides # 30-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6324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1828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962520" y="1371240"/>
            <a:ext cx="4495680" cy="342900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ANY SLIDES TO ENSURE THAT YOU UNDERST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L SUPPLY SUPPORT FUNDAMEN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ION, ORGANIZATION, AND EMPLOYMENT OF MODULAR GENERAL SUPPLY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L SUPPLY REQUISITION AND DISTRIBUTION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 CONSIDERATIONS FOR GENERAL SUPPLY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L SUPPLY SUPPORT OF DIVERS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380880"/>
            <a:ext cx="80773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CHECKS ON LEARNING FOR THE GENERAL SUPPLIES LESS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53080" y="6172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952880"/>
            <a:ext cx="441972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ONTINUE ON TO THE NEXT LESSON OF YOUR SUPPORT OPERTIONS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733920"/>
            <a:ext cx="815328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E.  All of the above.                   ELO C  FM 4-0  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600200"/>
            <a:ext cx="815328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must be tailored and packaged for 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units based on a specific time and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will be packaged based on type of units and 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will be distribution based instead of picked up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throughput of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172200"/>
            <a:ext cx="73911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E.  All of the above.                  ELO C FM 40  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general supply support basics will you consider as a SPO planning your concept of suppor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724280"/>
            <a:ext cx="81532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itial requirements and filling shortages in the “initial iss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tus of authorized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deployment requirements/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ment and consump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733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135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32" h="21600">
                <a:moveTo>
                  <a:pt x="135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32" h="21600">
                <a:moveTo>
                  <a:pt x="10940" y="8224"/>
                </a:moveTo>
                <a:lnTo>
                  <a:pt x="14804" y="8224"/>
                </a:lnTo>
                <a:lnTo>
                  <a:pt x="14804" y="15221"/>
                </a:lnTo>
                <a:lnTo>
                  <a:pt x="16092" y="15221"/>
                </a:lnTo>
                <a:lnTo>
                  <a:pt x="16092" y="16144"/>
                </a:lnTo>
                <a:lnTo>
                  <a:pt x="10940" y="16144"/>
                </a:lnTo>
                <a:lnTo>
                  <a:pt x="10940" y="15221"/>
                </a:lnTo>
                <a:lnTo>
                  <a:pt x="12228" y="15221"/>
                </a:lnTo>
                <a:lnTo>
                  <a:pt x="12228" y="9129"/>
                </a:lnTo>
                <a:lnTo>
                  <a:pt x="10940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6483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14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SPO or officer in the Supply and Service Cell of the BSB, what other supply planning considerations should you consi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62485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135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32" h="21600">
                <a:moveTo>
                  <a:pt x="135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32" h="21600">
                <a:moveTo>
                  <a:pt x="10940" y="8224"/>
                </a:moveTo>
                <a:lnTo>
                  <a:pt x="14804" y="8224"/>
                </a:lnTo>
                <a:lnTo>
                  <a:pt x="14804" y="15221"/>
                </a:lnTo>
                <a:lnTo>
                  <a:pt x="16092" y="15221"/>
                </a:lnTo>
                <a:lnTo>
                  <a:pt x="16092" y="16144"/>
                </a:lnTo>
                <a:lnTo>
                  <a:pt x="10940" y="16144"/>
                </a:lnTo>
                <a:lnTo>
                  <a:pt x="10940" y="15221"/>
                </a:lnTo>
                <a:lnTo>
                  <a:pt x="12228" y="15221"/>
                </a:lnTo>
                <a:lnTo>
                  <a:pt x="12228" y="9129"/>
                </a:lnTo>
                <a:lnTo>
                  <a:pt x="10940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ich BSB company provides general supplies to the heavy brigade combat team (HBCT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03_v1-1_tf07" descr=""/>
          <p:cNvPicPr/>
          <p:nvPr/>
        </p:nvPicPr>
        <p:blipFill>
          <a:blip r:embed="rId1"/>
          <a:srcRect l="0" t="8002" r="0" b="0"/>
          <a:stretch/>
        </p:blipFill>
        <p:spPr>
          <a:xfrm>
            <a:off x="2514600" y="3276720"/>
            <a:ext cx="6248520" cy="350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84840" y="4140360"/>
            <a:ext cx="1401840" cy="20318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84840" y="4191120"/>
            <a:ext cx="233280" cy="355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84840" y="5308560"/>
            <a:ext cx="291960" cy="254160"/>
          </a:xfrm>
          <a:prstGeom prst="rightArrow">
            <a:avLst>
              <a:gd name="adj1" fmla="val 50000"/>
              <a:gd name="adj2" fmla="val 2871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FMI 4-90.1    Slides 13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06400" y="1600200"/>
            <a:ext cx="7391520" cy="1828800"/>
            <a:chOff x="806400" y="1600200"/>
            <a:chExt cx="7391520" cy="1828800"/>
          </a:xfrm>
        </p:grpSpPr>
        <p:sp>
          <p:nvSpPr>
            <p:cNvPr id="74" name=""/>
            <p:cNvSpPr/>
            <p:nvPr/>
          </p:nvSpPr>
          <p:spPr>
            <a:xfrm>
              <a:off x="806400" y="1600200"/>
              <a:ext cx="7391520" cy="182880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1747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1143000" y="1880640"/>
            <a:ext cx="6781680" cy="11142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43000" y="1880640"/>
                      <a:ext cx="6781680" cy="11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2165400" y="281916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5720" y="289728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59280" y="2497680"/>
              <a:ext cx="685800" cy="3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40520" y="2497680"/>
              <a:ext cx="0" cy="31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9280" y="2652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1920" y="2575080"/>
              <a:ext cx="0" cy="15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2800" y="2575080"/>
              <a:ext cx="0" cy="15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600" y="288432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1969920"/>
              <a:ext cx="1066680" cy="22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2520" y="1969920"/>
              <a:ext cx="1143000" cy="22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5880" y="2192760"/>
              <a:ext cx="1447920" cy="1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2374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467480" y="2237040"/>
              <a:ext cx="0" cy="13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008080"/>
            <a:ext cx="563868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and monitors the distribution of supplies with the B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general supply storage and distribution operations in subordinat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combat spares and coordinates critical parts status with the sustainment brig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material handling equipment (MHE) requirements to support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s backlogs of critical weapon systems with the Brigade S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 the plans and policies for reparable exchange and Class IX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6477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TRUE or FALSE?  The BSB SPO’s Supply and Service Cell performs the following 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0512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400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324480" y="1905120"/>
          <a:ext cx="2362320" cy="449424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</a:tblGrid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9144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4008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 Sli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752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24852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914400"/>
            <a:ext cx="822960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TRUE or FALSE?  The BSB SPO’s Supply and Service Cell perform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0512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and monitors the distribution of supplies with the B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general supply storage and distribution operations in subordinat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combat spares and coordinates critical parts status with the sustainment brig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material handling equipment (MHE) requirements to support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s backlogs of critical weapon systems with the Brigade S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 the plans and policies for reparable exchange and Class IX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629400" y="1704960"/>
          <a:ext cx="2057400" cy="45259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590920" y="6095880"/>
            <a:ext cx="48765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The BSB SPO’s Maintenance Cell performs those missions identified as 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432520" y="-219600"/>
            <a:ext cx="2870280" cy="373536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401600">
            <a:off x="3768840" y="5240160"/>
            <a:ext cx="2300040" cy="15415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940760" y="1056240"/>
            <a:ext cx="2649240" cy="352440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752480"/>
            <a:ext cx="28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stainment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928880"/>
            <a:ext cx="10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55932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702120" y="4271760"/>
            <a:ext cx="306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229640" y="3061440"/>
            <a:ext cx="37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1960" y="4813200"/>
            <a:ext cx="609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829080" y="1992960"/>
            <a:ext cx="1970280" cy="1727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401840" y="266364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32640" y="2143080"/>
            <a:ext cx="609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19680" y="3313080"/>
            <a:ext cx="4413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171200">
            <a:off x="4008600" y="3443040"/>
            <a:ext cx="1398600" cy="12412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86400" y="3965400"/>
            <a:ext cx="560160" cy="297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02240" y="4040280"/>
            <a:ext cx="530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3640" y="3728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401600">
            <a:off x="6845400" y="4896000"/>
            <a:ext cx="958680" cy="11905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32240" y="6208560"/>
            <a:ext cx="4395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28000" y="5122800"/>
            <a:ext cx="558720" cy="281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6080" y="51944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80640" y="4940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21560" y="60069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2920" y="6143760"/>
            <a:ext cx="403200" cy="2286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7440" y="6188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6520" y="2320920"/>
            <a:ext cx="530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6080" y="17319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82760" y="1900080"/>
            <a:ext cx="557280" cy="281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4520" y="59515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13360" y="6091200"/>
            <a:ext cx="647640" cy="311040"/>
            <a:chOff x="4113360" y="6091200"/>
            <a:chExt cx="647640" cy="311040"/>
          </a:xfrm>
        </p:grpSpPr>
        <p:sp>
          <p:nvSpPr>
            <p:cNvPr id="142" name=""/>
            <p:cNvSpPr/>
            <p:nvPr/>
          </p:nvSpPr>
          <p:spPr>
            <a:xfrm>
              <a:off x="4113360" y="6091200"/>
              <a:ext cx="64764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46920" y="6175800"/>
              <a:ext cx="380160" cy="14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03440" y="6203520"/>
              <a:ext cx="267120" cy="8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03440" y="6203160"/>
              <a:ext cx="267120" cy="8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38400" y="2489040"/>
            <a:ext cx="560160" cy="297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2440" y="2563920"/>
            <a:ext cx="530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85640" y="2251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97560" y="43275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BCT 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20040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sion G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362320"/>
            <a:ext cx="33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s G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98800" y="52722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38400" y="2997360"/>
            <a:ext cx="502920" cy="435960"/>
            <a:chOff x="1238400" y="2997360"/>
            <a:chExt cx="502920" cy="435960"/>
          </a:xfrm>
        </p:grpSpPr>
        <p:sp>
          <p:nvSpPr>
            <p:cNvPr id="154" name=""/>
            <p:cNvSpPr/>
            <p:nvPr/>
          </p:nvSpPr>
          <p:spPr>
            <a:xfrm>
              <a:off x="1352520" y="29973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38400" y="3152520"/>
              <a:ext cx="502920" cy="280800"/>
              <a:chOff x="1238400" y="3152520"/>
              <a:chExt cx="502920" cy="280800"/>
            </a:xfrm>
          </p:grpSpPr>
          <p:sp>
            <p:nvSpPr>
              <p:cNvPr id="156" name=""/>
              <p:cNvSpPr/>
              <p:nvPr/>
            </p:nvSpPr>
            <p:spPr>
              <a:xfrm>
                <a:off x="1238400" y="3152520"/>
                <a:ext cx="502920" cy="2808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38400" y="336312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1239120" y="313848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41320" y="2786040"/>
            <a:ext cx="503280" cy="436680"/>
            <a:chOff x="1741320" y="2786040"/>
            <a:chExt cx="503280" cy="436680"/>
          </a:xfrm>
        </p:grpSpPr>
        <p:sp>
          <p:nvSpPr>
            <p:cNvPr id="160" name=""/>
            <p:cNvSpPr/>
            <p:nvPr/>
          </p:nvSpPr>
          <p:spPr>
            <a:xfrm>
              <a:off x="1855800" y="278604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741320" y="2941560"/>
              <a:ext cx="503280" cy="281160"/>
              <a:chOff x="1741320" y="2941560"/>
              <a:chExt cx="503280" cy="2811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41320" y="2941560"/>
                <a:ext cx="503280" cy="2811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41320" y="315252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4616280" y="4192560"/>
            <a:ext cx="503280" cy="436320"/>
            <a:chOff x="4616280" y="4192560"/>
            <a:chExt cx="503280" cy="436320"/>
          </a:xfrm>
        </p:grpSpPr>
        <p:sp>
          <p:nvSpPr>
            <p:cNvPr id="165" name=""/>
            <p:cNvSpPr/>
            <p:nvPr/>
          </p:nvSpPr>
          <p:spPr>
            <a:xfrm>
              <a:off x="4730400" y="41925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616280" y="4347720"/>
              <a:ext cx="503280" cy="281160"/>
              <a:chOff x="4616280" y="4347720"/>
              <a:chExt cx="503280" cy="281160"/>
            </a:xfrm>
          </p:grpSpPr>
          <p:sp>
            <p:nvSpPr>
              <p:cNvPr id="167" name=""/>
              <p:cNvSpPr/>
              <p:nvPr/>
            </p:nvSpPr>
            <p:spPr>
              <a:xfrm>
                <a:off x="4616280" y="4347720"/>
                <a:ext cx="503280" cy="2811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16280" y="455868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2747880" y="5248440"/>
            <a:ext cx="11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35760" y="48960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Where are the SPOs employed on the modular battlefield shown on this slide of general supply organizations and logistics plann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6248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432520" y="-219600"/>
            <a:ext cx="2870280" cy="373536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401600">
            <a:off x="3738600" y="5293800"/>
            <a:ext cx="2279520" cy="14875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1959840" y="1208520"/>
            <a:ext cx="2557440" cy="349272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67652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stainment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9600" y="190512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79404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6648480" y="4356000"/>
            <a:ext cx="295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199400" y="3185280"/>
            <a:ext cx="360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65880" y="4881600"/>
            <a:ext cx="603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483840" y="2136960"/>
            <a:ext cx="1901880" cy="17110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390680" y="281448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303640"/>
            <a:ext cx="604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0080" y="3433680"/>
            <a:ext cx="4363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171200">
            <a:off x="3733920" y="3581280"/>
            <a:ext cx="1385640" cy="12002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1120" y="3835440"/>
            <a:ext cx="555480" cy="514440"/>
            <a:chOff x="4191120" y="3835440"/>
            <a:chExt cx="555480" cy="514440"/>
          </a:xfrm>
        </p:grpSpPr>
        <p:sp>
          <p:nvSpPr>
            <p:cNvPr id="191" name=""/>
            <p:cNvSpPr/>
            <p:nvPr/>
          </p:nvSpPr>
          <p:spPr>
            <a:xfrm>
              <a:off x="4191120" y="4062240"/>
              <a:ext cx="555480" cy="2876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191120" y="3835440"/>
              <a:ext cx="525240" cy="437040"/>
              <a:chOff x="4191120" y="3835440"/>
              <a:chExt cx="525240" cy="437040"/>
            </a:xfrm>
          </p:grpSpPr>
          <p:sp>
            <p:nvSpPr>
              <p:cNvPr id="193" name=""/>
              <p:cNvSpPr/>
              <p:nvPr/>
            </p:nvSpPr>
            <p:spPr>
              <a:xfrm>
                <a:off x="4191120" y="4135320"/>
                <a:ext cx="525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36920" y="3835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 rot="1401600">
            <a:off x="6781320" y="4952520"/>
            <a:ext cx="951120" cy="11494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1360" y="6229440"/>
            <a:ext cx="4366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067520" y="5003640"/>
            <a:ext cx="552600" cy="447840"/>
            <a:chOff x="7067520" y="5003640"/>
            <a:chExt cx="552600" cy="447840"/>
          </a:xfrm>
        </p:grpSpPr>
        <p:sp>
          <p:nvSpPr>
            <p:cNvPr id="198" name=""/>
            <p:cNvSpPr/>
            <p:nvPr/>
          </p:nvSpPr>
          <p:spPr>
            <a:xfrm>
              <a:off x="7067520" y="5180040"/>
              <a:ext cx="552600" cy="271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8040" y="5241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18720" y="5003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772240" y="60339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75400" y="6164280"/>
            <a:ext cx="398520" cy="22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6208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95360" y="2475000"/>
            <a:ext cx="5256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4920" y="19065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068560"/>
            <a:ext cx="554040" cy="2714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9799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079880" y="6114960"/>
            <a:ext cx="639720" cy="300240"/>
            <a:chOff x="4079880" y="6114960"/>
            <a:chExt cx="639720" cy="300240"/>
          </a:xfrm>
        </p:grpSpPr>
        <p:sp>
          <p:nvSpPr>
            <p:cNvPr id="209" name=""/>
            <p:cNvSpPr/>
            <p:nvPr/>
          </p:nvSpPr>
          <p:spPr>
            <a:xfrm>
              <a:off x="4079880" y="6114960"/>
              <a:ext cx="63972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2000" y="6196680"/>
              <a:ext cx="375480" cy="136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67800" y="6223320"/>
              <a:ext cx="263880" cy="8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67800" y="6222960"/>
              <a:ext cx="263880" cy="8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30480" y="2408400"/>
            <a:ext cx="554040" cy="515880"/>
            <a:chOff x="1230480" y="2408400"/>
            <a:chExt cx="554040" cy="515880"/>
          </a:xfrm>
        </p:grpSpPr>
        <p:sp>
          <p:nvSpPr>
            <p:cNvPr id="214" name=""/>
            <p:cNvSpPr/>
            <p:nvPr/>
          </p:nvSpPr>
          <p:spPr>
            <a:xfrm>
              <a:off x="1230480" y="2637000"/>
              <a:ext cx="554040" cy="2872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244520" y="2408400"/>
              <a:ext cx="525600" cy="438480"/>
              <a:chOff x="1244520" y="2408400"/>
              <a:chExt cx="525600" cy="43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1244520" y="2709720"/>
                <a:ext cx="5256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4480" y="24084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7774200" y="518148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SB 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3962520"/>
            <a:ext cx="29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stainment BDE S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SSB 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514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stainment BDE S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SSB 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67120" y="5324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30480" y="3127320"/>
            <a:ext cx="498240" cy="421920"/>
            <a:chOff x="1230480" y="3127320"/>
            <a:chExt cx="498240" cy="421920"/>
          </a:xfrm>
        </p:grpSpPr>
        <p:sp>
          <p:nvSpPr>
            <p:cNvPr id="223" name=""/>
            <p:cNvSpPr/>
            <p:nvPr/>
          </p:nvSpPr>
          <p:spPr>
            <a:xfrm>
              <a:off x="1343160" y="312732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230480" y="3277440"/>
              <a:ext cx="498240" cy="271800"/>
              <a:chOff x="1230480" y="3277440"/>
              <a:chExt cx="498240" cy="271800"/>
            </a:xfrm>
          </p:grpSpPr>
          <p:sp>
            <p:nvSpPr>
              <p:cNvPr id="225" name=""/>
              <p:cNvSpPr/>
              <p:nvPr/>
            </p:nvSpPr>
            <p:spPr>
              <a:xfrm>
                <a:off x="1230480" y="3277440"/>
                <a:ext cx="498240" cy="2718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30480" y="348120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1231200" y="3263760"/>
            <a:ext cx="4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28720" y="2924280"/>
            <a:ext cx="498600" cy="421920"/>
            <a:chOff x="1728720" y="2924280"/>
            <a:chExt cx="498600" cy="421920"/>
          </a:xfrm>
        </p:grpSpPr>
        <p:sp>
          <p:nvSpPr>
            <p:cNvPr id="229" name=""/>
            <p:cNvSpPr/>
            <p:nvPr/>
          </p:nvSpPr>
          <p:spPr>
            <a:xfrm>
              <a:off x="1841760" y="29242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728720" y="3074400"/>
              <a:ext cx="498600" cy="271800"/>
              <a:chOff x="1728720" y="3074400"/>
              <a:chExt cx="498600" cy="271800"/>
            </a:xfrm>
          </p:grpSpPr>
          <p:sp>
            <p:nvSpPr>
              <p:cNvPr id="231" name=""/>
              <p:cNvSpPr/>
              <p:nvPr/>
            </p:nvSpPr>
            <p:spPr>
              <a:xfrm>
                <a:off x="1728720" y="3074400"/>
                <a:ext cx="498600" cy="2718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28720" y="3278160"/>
                <a:ext cx="49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206960" y="4281480"/>
            <a:ext cx="498240" cy="421920"/>
            <a:chOff x="4206960" y="4281480"/>
            <a:chExt cx="498240" cy="421920"/>
          </a:xfrm>
        </p:grpSpPr>
        <p:sp>
          <p:nvSpPr>
            <p:cNvPr id="234" name=""/>
            <p:cNvSpPr/>
            <p:nvPr/>
          </p:nvSpPr>
          <p:spPr>
            <a:xfrm>
              <a:off x="4319640" y="42814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206960" y="4431240"/>
              <a:ext cx="498240" cy="272160"/>
              <a:chOff x="4206960" y="4431240"/>
              <a:chExt cx="498240" cy="272160"/>
            </a:xfrm>
          </p:grpSpPr>
          <p:sp>
            <p:nvSpPr>
              <p:cNvPr id="236" name=""/>
              <p:cNvSpPr/>
              <p:nvPr/>
            </p:nvSpPr>
            <p:spPr>
              <a:xfrm>
                <a:off x="4206960" y="4431240"/>
                <a:ext cx="498240" cy="2721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06960" y="463536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725560" y="530064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25132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990720"/>
            <a:ext cx="8305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Where are the SPOs employed on the modular battlefield shown on this slide of modular general supply organizations and logistics plann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s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1320" y="35053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97560" y="47084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BCT 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6248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   Slide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248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990720"/>
            <a:ext cx="800100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o directs the Distribution Company to replenish forward support company (FSC) general supply stock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3429000"/>
            <a:ext cx="79246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Name three platoons/companies that provide general supply support at the tactical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590920"/>
            <a:ext cx="800100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B.  BSB SPO             ELO C  FM 4-090.1   Slides 8, 12,15, 18,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4419720"/>
            <a:ext cx="792468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 Supply Platoon, Distribution Company, BSB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5029200"/>
            <a:ext cx="754380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Platoon, Forward Support Company (FSC), HB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5715000"/>
            <a:ext cx="7543800" cy="3682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 Support Co/Supply Company, CSSB, Sustainment Brig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324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FMI 4-90.1      Slides 10, 11,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598760"/>
            <a:ext cx="8001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ment Brigade SPO/D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gade Support Battalion (BSB)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B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 rot="5400000">
            <a:off x="2020320" y="1645920"/>
            <a:ext cx="2316240" cy="342756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2409840" y="1349280"/>
            <a:ext cx="2315880" cy="3427200"/>
          </a:xfrm>
          <a:custGeom>
            <a:avLst/>
            <a:gdLst/>
            <a:ahLst/>
            <a:rect l="l" t="t" r="r" b="b"/>
            <a:pathLst>
              <a:path w="2353" h="1937">
                <a:moveTo>
                  <a:pt x="399" y="1937"/>
                </a:moveTo>
                <a:cubicBezTo>
                  <a:pt x="199" y="1362"/>
                  <a:pt x="0" y="787"/>
                  <a:pt x="326" y="464"/>
                </a:cubicBezTo>
                <a:cubicBezTo>
                  <a:pt x="652" y="141"/>
                  <a:pt x="1502" y="70"/>
                  <a:pt x="235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55760" y="2347920"/>
            <a:ext cx="14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5812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65600" y="31478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6537960" y="4622040"/>
            <a:ext cx="268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137120" y="3557520"/>
            <a:ext cx="325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800" y="5105520"/>
            <a:ext cx="5922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906480" y="2552760"/>
            <a:ext cx="1722240" cy="16812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1360440" y="325116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31040" y="2770200"/>
            <a:ext cx="593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92600" y="3792600"/>
            <a:ext cx="4287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171200">
            <a:off x="3901680" y="3560400"/>
            <a:ext cx="1360440" cy="10857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465800" y="3728880"/>
            <a:ext cx="544320" cy="468000"/>
            <a:chOff x="4465800" y="3728880"/>
            <a:chExt cx="544320" cy="468000"/>
          </a:xfrm>
        </p:grpSpPr>
        <p:sp>
          <p:nvSpPr>
            <p:cNvPr id="273" name=""/>
            <p:cNvSpPr/>
            <p:nvPr/>
          </p:nvSpPr>
          <p:spPr>
            <a:xfrm>
              <a:off x="4465800" y="3936600"/>
              <a:ext cx="544320" cy="2602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0200" y="4002120"/>
              <a:ext cx="515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7640" y="372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401600">
            <a:off x="6730560" y="5052600"/>
            <a:ext cx="935280" cy="10414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985080" y="5097600"/>
            <a:ext cx="542880" cy="406440"/>
            <a:chOff x="6985080" y="5097600"/>
            <a:chExt cx="542880" cy="406440"/>
          </a:xfrm>
        </p:grpSpPr>
        <p:sp>
          <p:nvSpPr>
            <p:cNvPr id="278" name=""/>
            <p:cNvSpPr/>
            <p:nvPr/>
          </p:nvSpPr>
          <p:spPr>
            <a:xfrm>
              <a:off x="6985080" y="5257800"/>
              <a:ext cx="542880" cy="246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95240" y="53193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34120" y="5097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570640" y="5956200"/>
            <a:ext cx="392040" cy="320400"/>
            <a:chOff x="5570640" y="5956200"/>
            <a:chExt cx="392040" cy="320400"/>
          </a:xfrm>
        </p:grpSpPr>
        <p:sp>
          <p:nvSpPr>
            <p:cNvPr id="282" name=""/>
            <p:cNvSpPr/>
            <p:nvPr/>
          </p:nvSpPr>
          <p:spPr>
            <a:xfrm>
              <a:off x="5667480" y="59562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6075360"/>
              <a:ext cx="392040" cy="2012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40480" y="6114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370160" y="2924280"/>
            <a:ext cx="515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3240" y="240984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7840" y="2557440"/>
            <a:ext cx="542880" cy="246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43440" y="5950080"/>
            <a:ext cx="630360" cy="394920"/>
            <a:chOff x="4843440" y="5950080"/>
            <a:chExt cx="630360" cy="394920"/>
          </a:xfrm>
        </p:grpSpPr>
        <p:sp>
          <p:nvSpPr>
            <p:cNvPr id="289" name=""/>
            <p:cNvSpPr/>
            <p:nvPr/>
          </p:nvSpPr>
          <p:spPr>
            <a:xfrm>
              <a:off x="5029200" y="59500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843440" y="6073200"/>
              <a:ext cx="630360" cy="271800"/>
              <a:chOff x="4843440" y="6073200"/>
              <a:chExt cx="630360" cy="271800"/>
            </a:xfrm>
          </p:grpSpPr>
          <p:sp>
            <p:nvSpPr>
              <p:cNvPr id="291" name=""/>
              <p:cNvSpPr/>
              <p:nvPr/>
            </p:nvSpPr>
            <p:spPr>
              <a:xfrm>
                <a:off x="4843440" y="6073200"/>
                <a:ext cx="630360" cy="27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73400" y="6147360"/>
                <a:ext cx="370080" cy="123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28480" y="6171480"/>
                <a:ext cx="259920" cy="7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028480" y="6171480"/>
                <a:ext cx="259920" cy="7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08160" y="2778120"/>
            <a:ext cx="544320" cy="468000"/>
            <a:chOff x="1208160" y="2778120"/>
            <a:chExt cx="544320" cy="468000"/>
          </a:xfrm>
        </p:grpSpPr>
        <p:sp>
          <p:nvSpPr>
            <p:cNvPr id="296" name=""/>
            <p:cNvSpPr/>
            <p:nvPr/>
          </p:nvSpPr>
          <p:spPr>
            <a:xfrm>
              <a:off x="1208160" y="2985840"/>
              <a:ext cx="544320" cy="2602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22560" y="3051360"/>
              <a:ext cx="515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0000" y="277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766880" y="3208320"/>
            <a:ext cx="488880" cy="382320"/>
            <a:chOff x="1766880" y="3208320"/>
            <a:chExt cx="488880" cy="382320"/>
          </a:xfrm>
        </p:grpSpPr>
        <p:sp>
          <p:nvSpPr>
            <p:cNvPr id="300" name=""/>
            <p:cNvSpPr/>
            <p:nvPr/>
          </p:nvSpPr>
          <p:spPr>
            <a:xfrm>
              <a:off x="1877760" y="320832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766880" y="3344040"/>
              <a:ext cx="488880" cy="246600"/>
              <a:chOff x="1766880" y="3344040"/>
              <a:chExt cx="488880" cy="246600"/>
            </a:xfrm>
          </p:grpSpPr>
          <p:sp>
            <p:nvSpPr>
              <p:cNvPr id="302" name=""/>
              <p:cNvSpPr/>
              <p:nvPr/>
            </p:nvSpPr>
            <p:spPr>
              <a:xfrm>
                <a:off x="1766880" y="3344040"/>
                <a:ext cx="488880" cy="2466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766880" y="3515760"/>
                <a:ext cx="4888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4075200" y="4008600"/>
            <a:ext cx="488880" cy="380880"/>
            <a:chOff x="4075200" y="4008600"/>
            <a:chExt cx="488880" cy="380880"/>
          </a:xfrm>
        </p:grpSpPr>
        <p:sp>
          <p:nvSpPr>
            <p:cNvPr id="305" name=""/>
            <p:cNvSpPr/>
            <p:nvPr/>
          </p:nvSpPr>
          <p:spPr>
            <a:xfrm>
              <a:off x="4186080" y="40086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075200" y="4143960"/>
              <a:ext cx="488880" cy="245520"/>
              <a:chOff x="4075200" y="4143960"/>
              <a:chExt cx="488880" cy="245520"/>
            </a:xfrm>
          </p:grpSpPr>
          <p:sp>
            <p:nvSpPr>
              <p:cNvPr id="307" name=""/>
              <p:cNvSpPr/>
              <p:nvPr/>
            </p:nvSpPr>
            <p:spPr>
              <a:xfrm>
                <a:off x="4075200" y="4143960"/>
                <a:ext cx="488880" cy="2455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075200" y="4314960"/>
                <a:ext cx="4888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6942240" y="5545080"/>
            <a:ext cx="558000" cy="491400"/>
            <a:chOff x="6942240" y="5545080"/>
            <a:chExt cx="558000" cy="491400"/>
          </a:xfrm>
        </p:grpSpPr>
        <p:sp>
          <p:nvSpPr>
            <p:cNvPr id="310" name=""/>
            <p:cNvSpPr/>
            <p:nvPr/>
          </p:nvSpPr>
          <p:spPr>
            <a:xfrm>
              <a:off x="7068600" y="55450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942240" y="5719680"/>
              <a:ext cx="558000" cy="316800"/>
              <a:chOff x="6942240" y="5719680"/>
              <a:chExt cx="558000" cy="316800"/>
            </a:xfrm>
          </p:grpSpPr>
          <p:sp>
            <p:nvSpPr>
              <p:cNvPr id="312" name=""/>
              <p:cNvSpPr/>
              <p:nvPr/>
            </p:nvSpPr>
            <p:spPr>
              <a:xfrm>
                <a:off x="6942240" y="5719680"/>
                <a:ext cx="558000" cy="3168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942240" y="5940360"/>
                <a:ext cx="55800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7104240" y="5740560"/>
            <a:ext cx="210960" cy="183960"/>
            <a:chOff x="7104240" y="5740560"/>
            <a:chExt cx="210960" cy="183960"/>
          </a:xfrm>
        </p:grpSpPr>
        <p:sp>
          <p:nvSpPr>
            <p:cNvPr id="315" name=""/>
            <p:cNvSpPr/>
            <p:nvPr/>
          </p:nvSpPr>
          <p:spPr>
            <a:xfrm>
              <a:off x="7104240" y="5740560"/>
              <a:ext cx="210960" cy="183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04240" y="583488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127640" y="5761080"/>
              <a:ext cx="168480" cy="14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9720" y="5767920"/>
              <a:ext cx="16884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28600" y="1979640"/>
            <a:ext cx="770040" cy="6760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035000"/>
            <a:ext cx="8305920" cy="642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How would you draw arrows to depict supply distribution of Class I from the corps sustainment base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6369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moorem2</cp:lastModifiedBy>
  <dcterms:modified xsi:type="dcterms:W3CDTF">2006-01-25T14:45:58Z</dcterms:modified>
  <cp:revision>170</cp:revision>
  <dc:subject/>
  <dc:title>CHECKS ON LEARNING</dc:title>
</cp:coreProperties>
</file>